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F87-2E15-4D22-A9C1-E3E88452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BCA-86C6-4580-B2C1-293AA1D9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957-93C8-4EF9-9057-31D0CB81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BC6-5402-49D0-9100-EB75266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CE5F5-45DE-4C21-AF51-31F4B74F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6410-3868-4FED-BBC1-31E2F618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7918-1A83-45D9-AA73-FE8F8D4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FAE48-B2E4-41F7-B7D1-054CAB8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013E-785D-4FCF-8A41-D85DABBD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45268-7CCB-4331-A4EC-CC6F360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BC0C0-DFFB-481C-AE6A-A179E24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860-E808-49A0-9416-9764150B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D8108-CF31-4427-9493-0E22D19D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7016-0484-484B-9E0B-2443231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FBE9-0BF9-42D3-9C21-73808E7F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24436-0B34-4290-87B4-4D6DF050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1F5A-E838-453C-B852-A29147C9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AB24-96DB-4500-B13B-F1E38E17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0032-3BF6-45ED-AEB1-4F07ABB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9AA8-F8C8-485C-89E6-97341200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84AE-9CDD-4846-8C81-18425F2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025A-E13A-4EF5-9305-56BE6A9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314-AFA7-4A35-839E-77E4AAC4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4A92-D948-4F44-88E5-0BB3549E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EC71-D31B-48A6-AA5D-06EAC7E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7F13-6EE9-469A-B923-E36B27E0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5DFE-E150-4B97-882C-5C51E0B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15B1-4C07-4F52-95B8-C3AEC2E5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9059-7E2E-43D2-9C0C-2B0EEADC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7087-396D-4367-959C-B4D95572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6E7-7433-4D3F-B615-54061DC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28A-D5F0-4976-AEF3-7C75121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CCA-337B-429D-B127-75C3CA9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6A7-C76D-492A-8D11-4079F46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25B-8B29-4910-B138-F585ADB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299-E2C6-4EC6-8C06-0BBC596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30F-A52C-4ED6-8E87-BCC3F8CC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520-DC93-4AB5-9F1D-53386082D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D8C-BB77-4BAB-8958-DEC8ED32D1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1557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800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entury Gothic"/>
              </a:rPr>
              <a:t>Уход за комнатными растениями в уголке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1735200" cy="2016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1228680" cy="180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71800" y="321840"/>
            <a:ext cx="669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оми государственный педагогический инстит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Факультет педагогики и методики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афедра педагогики и методики 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3933720"/>
            <a:ext cx="266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ночкина Наталья, студентка 63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60930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ыктывкар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87280" y="333360"/>
            <a:ext cx="71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Борьба с вре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324000" y="1341360"/>
            <a:ext cx="226188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276720" y="1413000"/>
            <a:ext cx="547200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лкое насекомое зеленого, черного или бурого цвета. Пораженное растение обливают мыльной водой с керосином. Обрабатывают несколько раз через каждые 7-10 дней. Затем обмывают чист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231588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3348000" y="4149720"/>
            <a:ext cx="504036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Щи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лкое насекомое, покрытое воскообразным щитком. Вредителей снимают щеткой, обмывают растение мыльной водой несколько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138400" cy="25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276720" y="260280"/>
            <a:ext cx="496872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Чер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пасный вредитель. Тело самки покрыто восковыми выделениями в виде нитей. Растение, пораженное червецом, кажется покрытым белым пухом. Удаляют вредителей кистью или кусочком ваты. Затем промыть мыльн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2185920" cy="266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348000" y="3357720"/>
            <a:ext cx="504036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аутинный к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астолько мал, что еле заметен глазу. Поселяется на нижней стороне листа, которую закрывает тонкой белой паутинкой. Пораженные места опрыскивают керасино-мыльн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235116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3564000" y="404640"/>
            <a:ext cx="525600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Три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елкое крылатое темно-бурое насекомое. Поселяется на нижней стороне листа. Пораженное растение обмывают мыльной водой, затем чистой, и так повторяют несколько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236232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635280" y="3645000"/>
            <a:ext cx="550872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Цикламеновый к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рошечные клещи. Когда их много, выглядят как слой пыли на нижней стороне листа. Поражают цикламен, бальзамин, пеларгонию, сенполию. Пораженные листья растения уда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24000" y="836640"/>
            <a:ext cx="48592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1197000"/>
            <a:ext cx="820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Успехов в работе по уходу за комнатными растения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2467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0920" y="260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6360" cy="279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580000" y="1341360"/>
            <a:ext cx="3167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ода для полива должна быть комнатной температуры, отстоявшейся в открытой посу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пасмурный и холодный день полив незначительный, в жаркую, сухую погоду – об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уковичные растения поливают в под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 поливке носик лейки должен касаться края горш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746520" cy="24386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2000" y="260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Опрыск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809000">
            <a:off x="0" y="0"/>
            <a:ext cx="1913040" cy="1913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84720" y="1268280"/>
            <a:ext cx="43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прыскивание поддерживает водный режим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ропические и другие растения с плотными кожистыми листьями весной и летом ежедневно опрыскивают водой комнатной темп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ля опрыскивания используют пульверизатор или небольшую лейку с мелким ситеч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астения в волосками на листьях опрыскивать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НЕЛЬЗЯ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, с них следует снимать пыль мягкой кисточк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24000" y="2637000"/>
            <a:ext cx="3816360" cy="2271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Мы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6000"/>
          </a:blip>
          <a:srcRect l="0" t="0" r="11658" b="-2037"/>
          <a:stretch/>
        </p:blipFill>
        <p:spPr>
          <a:xfrm>
            <a:off x="611280" y="1268280"/>
            <a:ext cx="3817800" cy="2301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003640" y="134136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1197000"/>
            <a:ext cx="3311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дин раз в неделю растения нужно м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мывают растения под душем или из лейки с ситечком, поставив горшок в таз, обязательно закрыть клеенкой землю, чтобы землю не разм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580000" y="4581360"/>
            <a:ext cx="2435400" cy="16401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95280" y="4149720"/>
            <a:ext cx="468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Растения с опушенными листьями мыть </a:t>
            </a:r>
            <a:r>
              <a:rPr b="1" lang="en-US" sz="1900" spc="-1" strike="noStrike">
                <a:solidFill>
                  <a:srgbClr val="ff0066"/>
                </a:solidFill>
                <a:latin typeface="Arial"/>
              </a:rPr>
              <a:t>НЕЛЬЗЯ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, их очищают от пыли мягкой кисточко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Цветочные горшки моют 3-4 раза в год с мылом при помощи жесткой ще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47640" y="3333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Рых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>
            <a:lum bright="-12000"/>
          </a:blip>
          <a:srcRect l="6072" t="0" r="4858" b="0"/>
          <a:stretch/>
        </p:blipFill>
        <p:spPr>
          <a:xfrm>
            <a:off x="5724360" y="1197000"/>
            <a:ext cx="2819520" cy="302400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5280" y="1265400"/>
            <a:ext cx="54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ыхление – это сухой по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изводят его на следующий день после по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ыхлить землю нужно деревянной палочкой не глуб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-1,5 см, около стенок горшка, чтобы не повредить к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268360" y="4437000"/>
            <a:ext cx="2710080" cy="186228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71440" y="25956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ерес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50840"/>
            <a:ext cx="61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учшее время для пересадки большинства растений — весна, с марта по 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емляной ком, вынутый из горшка, осторожно разрыхляют заостренным колышком, удаляя часть земли, затем ком освобождают от мелких мочковатых переплетенных корней, срезая их и весь «войлок» мелких корней острым но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дготовленный таким образом к пересадке ком опускают в новый горшок, при этом смотрят, чтобы корневая система была на 1—2 см ниже верхнего края гор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тение должно располагаться в центре гор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372360" y="907920"/>
            <a:ext cx="2420640" cy="558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76360" y="33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еревал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82840"/>
            <a:ext cx="536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изводится тогда, когда растению становится тесно в гор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 этом земляной ком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е разру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вежую землю насыпают небольшим слоем на дно горшка и добавляют между стенкой и земляным комом, и свер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2881440" cy="2847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8600" y="33264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одкор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00360" y="1411560"/>
            <a:ext cx="554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ДОУ используют минеральные удобрения (готовые сме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дкармливать лучше всего в период роста растения (после пересадки или укоре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дкормку используют 2-3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395280" y="2637000"/>
            <a:ext cx="2936880" cy="3024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>
            <a:lum bright="-12000"/>
          </a:blip>
          <a:stretch/>
        </p:blipFill>
        <p:spPr>
          <a:xfrm rot="20578200">
            <a:off x="591840" y="1074600"/>
            <a:ext cx="1895400" cy="2016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47636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Обре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rot="1522800">
            <a:off x="6803640" y="981000"/>
            <a:ext cx="1865160" cy="21272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403280" y="4003920"/>
            <a:ext cx="73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уть этой операции в удалении ростков и 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еобходима для сохранения силуэта растения, стимуляции роста, придания ему формы, для его омоложения или просто в санитарных целях, для удаления засохших или поврежденных 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148428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брезка должна сопровождаться тщательным уходом: более обильным поливом, подкормкой, хорошим освещением и достаточно высокой темп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6:43:21Z</dcterms:created>
  <dc:creator>Аня</dc:creator>
  <dc:description/>
  <dc:language>en-US</dc:language>
  <cp:lastModifiedBy>UserXP</cp:lastModifiedBy>
  <dcterms:modified xsi:type="dcterms:W3CDTF">2010-05-25T21:01:27Z</dcterms:modified>
  <cp:revision>56</cp:revision>
  <dc:subject/>
  <dc:title>Слайд 1</dc:title>
</cp:coreProperties>
</file>